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7.jpeg" ContentType="image/jpeg"/>
  <Override PartName="/ppt/media/image5.gif" ContentType="image/gif"/>
  <Override PartName="/ppt/media/image38.jpeg" ContentType="image/jpeg"/>
  <Override PartName="/ppt/media/image12.jpeg" ContentType="image/jpeg"/>
  <Override PartName="/ppt/media/image3.gif" ContentType="image/gif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34.jpeg" ContentType="image/jpeg"/>
  <Override PartName="/ppt/media/image44.gif" ContentType="image/gif"/>
  <Override PartName="/ppt/media/image49.jpeg" ContentType="image/jpeg"/>
  <Override PartName="/ppt/media/image37.jpeg" ContentType="image/jpeg"/>
  <Override PartName="/ppt/media/image43.gif" ContentType="image/gif"/>
  <Override PartName="/ppt/media/image30.jpeg" ContentType="image/jpeg"/>
  <Override PartName="/ppt/media/image31.jpeg" ContentType="image/jpeg"/>
  <Override PartName="/ppt/media/image41.png" ContentType="image/png"/>
  <Override PartName="/ppt/media/image47.gif" ContentType="image/gif"/>
  <Override PartName="/ppt/media/image53.jpeg" ContentType="image/jpeg"/>
  <Override PartName="/ppt/media/image32.jpeg" ContentType="image/jpeg"/>
  <Override PartName="/ppt/media/image48.gif" ContentType="image/gif"/>
  <Override PartName="/ppt/media/image54.jpeg" ContentType="image/jpeg"/>
  <Override PartName="/ppt/media/image56.png" ContentType="image/png"/>
  <Override PartName="/ppt/media/image55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45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4.jpeg" ContentType="image/jpeg"/>
  <Override PartName="/ppt/media/image3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22F-7CAD-48C3-826E-2D466BAE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71A6-FD18-46A2-8B70-7C5F32A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CD8-D98C-4C93-85E1-0B9415A3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0D0-AC06-4D5F-99D9-5613F4A9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B85-7425-4EB5-90F9-F3735FAB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96F-6591-4984-8FAB-35C2C706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1DB-904E-4B43-8FDE-A957277A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816-5976-42B1-805A-DDD30D7D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510-14AA-4FCE-90A2-A693C8C4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45B-68FE-47C0-9B13-8785E43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2C8-1122-4588-AA2E-0FA67333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660-C4D4-4393-BFE8-F4C33915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829F-D28A-43F7-B31F-BA3F02664B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5.gif"/><Relationship Id="rId3" Type="http://schemas.openxmlformats.org/officeDocument/2006/relationships/image" Target="../media/image55.gif"/><Relationship Id="rId4" Type="http://schemas.openxmlformats.org/officeDocument/2006/relationships/image" Target="../media/image55.gif"/><Relationship Id="rId5" Type="http://schemas.openxmlformats.org/officeDocument/2006/relationships/image" Target="../media/image55.gif"/><Relationship Id="rId6" Type="http://schemas.openxmlformats.org/officeDocument/2006/relationships/image" Target="../media/image55.gif"/><Relationship Id="rId7" Type="http://schemas.openxmlformats.org/officeDocument/2006/relationships/image" Target="../media/image55.gif"/><Relationship Id="rId8" Type="http://schemas.openxmlformats.org/officeDocument/2006/relationships/image" Target="../media/image55.gi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844640"/>
            <a:ext cx="568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ar Hour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1" descr="звёзды 1"/>
          <p:cNvPicPr/>
          <p:nvPr/>
        </p:nvPicPr>
        <p:blipFill>
          <a:blip r:embed="rId1"/>
          <a:stretch/>
        </p:blipFill>
        <p:spPr>
          <a:xfrm>
            <a:off x="1547640" y="404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звёзды2"/>
          <p:cNvPicPr/>
          <p:nvPr/>
        </p:nvPicPr>
        <p:blipFill>
          <a:blip r:embed="rId2"/>
          <a:stretch/>
        </p:blipFill>
        <p:spPr>
          <a:xfrm>
            <a:off x="6948360" y="333360"/>
            <a:ext cx="86688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звёзды3"/>
          <p:cNvPicPr/>
          <p:nvPr/>
        </p:nvPicPr>
        <p:blipFill>
          <a:blip r:embed="rId3"/>
          <a:stretch/>
        </p:blipFill>
        <p:spPr>
          <a:xfrm>
            <a:off x="468360" y="4365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звёзды 4"/>
          <p:cNvPicPr/>
          <p:nvPr/>
        </p:nvPicPr>
        <p:blipFill>
          <a:blip r:embed="rId4"/>
          <a:stretch/>
        </p:blipFill>
        <p:spPr>
          <a:xfrm>
            <a:off x="3246480" y="5237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звёзды5"/>
          <p:cNvPicPr/>
          <p:nvPr/>
        </p:nvPicPr>
        <p:blipFill>
          <a:blip r:embed="rId5"/>
          <a:stretch/>
        </p:blipFill>
        <p:spPr>
          <a:xfrm>
            <a:off x="7885080" y="429264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1721160" y="3852720"/>
            <a:ext cx="548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к-викторин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страноведческой тематик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4449600" y="5508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ель: Вакуленко Ольга Леонидовн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английского языка МБ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СОШ №1 им. П. П. Корягин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3209040" y="2858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VIII. Number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91680" y="907920"/>
            <a:ext cx="35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10 mln sq. k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58440" y="1484280"/>
            <a:ext cx="42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7,687, 000 sq. k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000040" y="1125360"/>
            <a:ext cx="358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17 mln sq. k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5351760" y="1773360"/>
            <a:ext cx="33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9 mln sq. k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2705040" y="2349360"/>
            <a:ext cx="38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Comic Sans MS"/>
              </a:rPr>
              <a:t>244, 000 sq. k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325080" y="306864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The area of the USA is 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01320" y="3645000"/>
            <a:ext cx="53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The area of Great Britain i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83760" y="4292640"/>
            <a:ext cx="491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The territory of Russia i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41360" y="49417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The territory of Canada i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441720" y="5734080"/>
            <a:ext cx="46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The area of Australia i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39 0.00579 L -0.1408 0.18426 E">
                                      <p:cBhvr>
                                        <p:cTn id="27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55 -0.02592 L 0.26024 0.18426 E">
                                      <p:cBhvr>
                                        <p:cTn id="28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0.14213 L -0.03004 0.46759 E">
                                      <p:cBhvr>
                                        <p:cTn id="28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5 -0.01505 L 0.50555 0.59398 E">
                                      <p:cBhvr>
                                        <p:cTn id="29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53 0.00579 L 0.43107 0.61482 E">
                                      <p:cBhvr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2993400" y="141120"/>
            <a:ext cx="452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IX. Names of stat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492640" y="836640"/>
            <a:ext cx="17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Comic Sans MS"/>
              </a:rPr>
              <a:t>1.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6"/>
          <p:cNvSpPr/>
          <p:nvPr/>
        </p:nvSpPr>
        <p:spPr>
          <a:xfrm rot="20985000">
            <a:off x="362160" y="3357360"/>
            <a:ext cx="22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Comic Sans MS"/>
              </a:rPr>
              <a:t>2. Illino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 rot="20617800">
            <a:off x="392400" y="5661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Comic Sans MS"/>
              </a:rPr>
              <a:t>3. Alaba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3175920" y="429264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Comic Sans MS"/>
              </a:rPr>
              <a:t>4. Alas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9"/>
          <p:cNvSpPr/>
          <p:nvPr/>
        </p:nvSpPr>
        <p:spPr>
          <a:xfrm rot="595800">
            <a:off x="5881680" y="31417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Comic Sans MS"/>
              </a:rPr>
              <a:t>5. Kans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0"/>
          <p:cNvSpPr/>
          <p:nvPr/>
        </p:nvSpPr>
        <p:spPr>
          <a:xfrm rot="495000">
            <a:off x="5626080" y="5516640"/>
            <a:ext cx="27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99"/>
                </a:solidFill>
                <a:latin typeface="Comic Sans MS"/>
              </a:rPr>
              <a:t>6. Monta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199600" y="616572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largest state of the USA i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1" descr="kanzas-siti_b"/>
          <p:cNvPicPr/>
          <p:nvPr/>
        </p:nvPicPr>
        <p:blipFill>
          <a:blip r:embed="rId1"/>
          <a:stretch/>
        </p:blipFill>
        <p:spPr>
          <a:xfrm rot="472200">
            <a:off x="5796000" y="980640"/>
            <a:ext cx="3144960" cy="2097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алабама"/>
          <p:cNvPicPr/>
          <p:nvPr/>
        </p:nvPicPr>
        <p:blipFill>
          <a:blip r:embed="rId2"/>
          <a:stretch/>
        </p:blipFill>
        <p:spPr>
          <a:xfrm rot="20986200">
            <a:off x="324000" y="407664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иллиноис"/>
          <p:cNvPicPr/>
          <p:nvPr/>
        </p:nvPicPr>
        <p:blipFill>
          <a:blip r:embed="rId3"/>
          <a:stretch/>
        </p:blipFill>
        <p:spPr>
          <a:xfrm rot="21207600">
            <a:off x="250920" y="1844640"/>
            <a:ext cx="2192400" cy="164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монтана"/>
          <p:cNvPicPr/>
          <p:nvPr/>
        </p:nvPicPr>
        <p:blipFill>
          <a:blip r:embed="rId4"/>
          <a:stretch/>
        </p:blipFill>
        <p:spPr>
          <a:xfrm rot="649800">
            <a:off x="6084720" y="3789000"/>
            <a:ext cx="1974960" cy="156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техас"/>
          <p:cNvPicPr/>
          <p:nvPr/>
        </p:nvPicPr>
        <p:blipFill>
          <a:blip r:embed="rId5"/>
          <a:stretch/>
        </p:blipFill>
        <p:spPr>
          <a:xfrm rot="21273000">
            <a:off x="395280" y="188640"/>
            <a:ext cx="182412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аляска карта"/>
          <p:cNvPicPr/>
          <p:nvPr/>
        </p:nvPicPr>
        <p:blipFill>
          <a:blip r:embed="rId6"/>
          <a:stretch/>
        </p:blipFill>
        <p:spPr>
          <a:xfrm>
            <a:off x="2700360" y="1916280"/>
            <a:ext cx="2865240" cy="2052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6839280" y="6093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as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408320" y="260280"/>
            <a:ext cx="576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X. Names of Great Lak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770560" y="105732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lake is in the US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48680" y="141300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omic Sans MS"/>
              </a:rPr>
              <a:t>1. Lake Superi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8648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omic Sans MS"/>
              </a:rPr>
              <a:t>2. Lake Hur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387160" y="256536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omic Sans MS"/>
              </a:rPr>
              <a:t>3. Lake Michig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095800" y="141300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omic Sans MS"/>
              </a:rPr>
              <a:t>4. Lake Er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107320" y="198900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omic Sans MS"/>
              </a:rPr>
              <a:t>5. Lake Ontar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" descr="karta-amerika"/>
          <p:cNvPicPr/>
          <p:nvPr/>
        </p:nvPicPr>
        <p:blipFill>
          <a:blip r:embed="rId1"/>
          <a:stretch/>
        </p:blipFill>
        <p:spPr>
          <a:xfrm>
            <a:off x="1763640" y="3141720"/>
            <a:ext cx="5194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1698480" y="115920"/>
            <a:ext cx="638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XI. Names of famous peopl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81800" y="692280"/>
            <a:ext cx="31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1. Bill Clin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23200" y="1341360"/>
            <a:ext cx="43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2. John F. Kenne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200" y="198900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3. John Brow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793680" y="765000"/>
            <a:ext cx="52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4. George Washing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745440" y="1989000"/>
            <a:ext cx="51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5.Thomas Alva Edi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90480" y="3645000"/>
            <a:ext cx="828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The first American inventor is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720360" y="4437000"/>
            <a:ext cx="75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omic Sans MS"/>
              </a:rPr>
              <a:t>A fighter against slavery is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903600" y="5229360"/>
            <a:ext cx="564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e first president of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Comic Sans MS"/>
              </a:rPr>
              <a:t>the USA is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634120" y="69840"/>
            <a:ext cx="50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XII. Names of month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december"/>
          <p:cNvPicPr/>
          <p:nvPr/>
        </p:nvPicPr>
        <p:blipFill>
          <a:blip r:embed="rId1"/>
          <a:stretch/>
        </p:blipFill>
        <p:spPr>
          <a:xfrm rot="281400">
            <a:off x="395280" y="549000"/>
            <a:ext cx="1511280" cy="850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june"/>
          <p:cNvPicPr/>
          <p:nvPr/>
        </p:nvPicPr>
        <p:blipFill>
          <a:blip r:embed="rId2"/>
          <a:stretch/>
        </p:blipFill>
        <p:spPr>
          <a:xfrm rot="441600">
            <a:off x="826560" y="1557000"/>
            <a:ext cx="1513080" cy="841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ebruary"/>
          <p:cNvPicPr/>
          <p:nvPr/>
        </p:nvPicPr>
        <p:blipFill>
          <a:blip r:embed="rId3"/>
          <a:stretch/>
        </p:blipFill>
        <p:spPr>
          <a:xfrm rot="378000">
            <a:off x="826920" y="2565360"/>
            <a:ext cx="1584360" cy="633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july"/>
          <p:cNvPicPr/>
          <p:nvPr/>
        </p:nvPicPr>
        <p:blipFill>
          <a:blip r:embed="rId4"/>
          <a:stretch/>
        </p:blipFill>
        <p:spPr>
          <a:xfrm rot="21061800">
            <a:off x="6012000" y="1773360"/>
            <a:ext cx="1728720" cy="7938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8" descr="november.gif"/>
          <p:cNvPicPr/>
          <p:nvPr/>
        </p:nvPicPr>
        <p:blipFill>
          <a:blip r:embed="rId5"/>
          <a:stretch/>
        </p:blipFill>
        <p:spPr>
          <a:xfrm rot="21198000">
            <a:off x="6156360" y="691920"/>
            <a:ext cx="1785960" cy="9522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9" descr="september.gif"/>
          <p:cNvPicPr/>
          <p:nvPr/>
        </p:nvPicPr>
        <p:blipFill>
          <a:blip r:embed="rId6"/>
          <a:stretch/>
        </p:blipFill>
        <p:spPr>
          <a:xfrm rot="21241200">
            <a:off x="5866920" y="2707920"/>
            <a:ext cx="1905120" cy="762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511200" y="350028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Monotype Corsiva"/>
              </a:rPr>
              <a:t>When is election day in the US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18920" y="4076640"/>
            <a:ext cx="55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Monotype Corsiva"/>
              </a:rPr>
              <a:t>When is Christmas in the US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501840" y="458136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Monotype Corsiva"/>
              </a:rPr>
              <a:t>When is Independence Day in the US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48720" y="515772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Monotype Corsiva"/>
              </a:rPr>
              <a:t>When is Thanksgiving Day in the US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825840" y="5661000"/>
            <a:ext cx="61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Monotype Corsiva"/>
              </a:rPr>
              <a:t>When is Veterans Day in the US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849040" y="69840"/>
            <a:ext cx="52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XIII. Names of writer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96280" y="1916280"/>
            <a:ext cx="36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2. Daniel Defo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205560" y="2565360"/>
            <a:ext cx="33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3. Mark Tw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593600" y="1413000"/>
            <a:ext cx="43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4. Rudyard Kipl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61800" y="134136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1. Jonathan Swif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884840" y="2060640"/>
            <a:ext cx="36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5. Lewis Carro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483000" y="3573360"/>
            <a:ext cx="54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Comic Sans MS"/>
              </a:rPr>
              <a:t>6. William Shakespe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3425040" y="1890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Names of writer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Джонатан Свифт"/>
          <p:cNvPicPr/>
          <p:nvPr/>
        </p:nvPicPr>
        <p:blipFill>
          <a:blip r:embed="rId1"/>
          <a:stretch/>
        </p:blipFill>
        <p:spPr>
          <a:xfrm rot="20559600">
            <a:off x="5796000" y="3429000"/>
            <a:ext cx="1766880" cy="2205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 rot="20326800">
            <a:off x="5502600" y="580068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Jonathan Swi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1222611867_daniel-defo-gravjura-18-v"/>
          <p:cNvPicPr/>
          <p:nvPr/>
        </p:nvPicPr>
        <p:blipFill>
          <a:blip r:embed="rId2"/>
          <a:stretch/>
        </p:blipFill>
        <p:spPr>
          <a:xfrm rot="20769000">
            <a:off x="539280" y="3573000"/>
            <a:ext cx="1417680" cy="1855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"/>
          <p:cNvSpPr/>
          <p:nvPr/>
        </p:nvSpPr>
        <p:spPr>
          <a:xfrm rot="19950000">
            <a:off x="471600" y="5516640"/>
            <a:ext cx="254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Daniel Defo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0" descr="Марк Твен"/>
          <p:cNvPicPr/>
          <p:nvPr/>
        </p:nvPicPr>
        <p:blipFill>
          <a:blip r:embed="rId3"/>
          <a:stretch/>
        </p:blipFill>
        <p:spPr>
          <a:xfrm rot="20803200">
            <a:off x="539280" y="260280"/>
            <a:ext cx="1584360" cy="2051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1"/>
          <p:cNvSpPr/>
          <p:nvPr/>
        </p:nvSpPr>
        <p:spPr>
          <a:xfrm rot="20117400">
            <a:off x="329760" y="242676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Mark Tw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12" descr="Редьярд Киплинг"/>
          <p:cNvPicPr/>
          <p:nvPr/>
        </p:nvPicPr>
        <p:blipFill>
          <a:blip r:embed="rId4"/>
          <a:stretch/>
        </p:blipFill>
        <p:spPr>
          <a:xfrm>
            <a:off x="3564000" y="907920"/>
            <a:ext cx="1666800" cy="1905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3"/>
          <p:cNvSpPr/>
          <p:nvPr/>
        </p:nvSpPr>
        <p:spPr>
          <a:xfrm>
            <a:off x="2271960" y="2924280"/>
            <a:ext cx="310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Rudyard Kip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14" descr="Уильям Шекспир"/>
          <p:cNvPicPr/>
          <p:nvPr/>
        </p:nvPicPr>
        <p:blipFill>
          <a:blip r:embed="rId5"/>
          <a:stretch/>
        </p:blipFill>
        <p:spPr>
          <a:xfrm rot="807600">
            <a:off x="7019640" y="475920"/>
            <a:ext cx="1508040" cy="201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5"/>
          <p:cNvSpPr/>
          <p:nvPr/>
        </p:nvSpPr>
        <p:spPr>
          <a:xfrm rot="907800">
            <a:off x="6034320" y="2421000"/>
            <a:ext cx="24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Willia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Shakespe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16" descr="Льюис Кэрролл"/>
          <p:cNvPicPr/>
          <p:nvPr/>
        </p:nvPicPr>
        <p:blipFill>
          <a:blip r:embed="rId6"/>
          <a:stretch/>
        </p:blipFill>
        <p:spPr>
          <a:xfrm>
            <a:off x="3492360" y="3645000"/>
            <a:ext cx="1494000" cy="1563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7"/>
          <p:cNvSpPr/>
          <p:nvPr/>
        </p:nvSpPr>
        <p:spPr>
          <a:xfrm>
            <a:off x="2976480" y="5516640"/>
            <a:ext cx="25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Comic Sans MS"/>
              </a:rPr>
              <a:t>Lewis Carro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шары"/>
          <p:cNvPicPr/>
          <p:nvPr/>
        </p:nvPicPr>
        <p:blipFill>
          <a:blip r:embed="rId1"/>
          <a:stretch/>
        </p:blipFill>
        <p:spPr>
          <a:xfrm>
            <a:off x="826920" y="1413000"/>
            <a:ext cx="648000" cy="63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шары"/>
          <p:cNvPicPr/>
          <p:nvPr/>
        </p:nvPicPr>
        <p:blipFill>
          <a:blip r:embed="rId2"/>
          <a:stretch/>
        </p:blipFill>
        <p:spPr>
          <a:xfrm>
            <a:off x="6877080" y="404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шары"/>
          <p:cNvPicPr/>
          <p:nvPr/>
        </p:nvPicPr>
        <p:blipFill>
          <a:blip r:embed="rId3"/>
          <a:stretch/>
        </p:blipFill>
        <p:spPr>
          <a:xfrm>
            <a:off x="755640" y="414972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шары"/>
          <p:cNvPicPr/>
          <p:nvPr/>
        </p:nvPicPr>
        <p:blipFill>
          <a:blip r:embed="rId4"/>
          <a:stretch/>
        </p:blipFill>
        <p:spPr>
          <a:xfrm>
            <a:off x="2843280" y="47628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шары"/>
          <p:cNvPicPr/>
          <p:nvPr/>
        </p:nvPicPr>
        <p:blipFill>
          <a:blip r:embed="rId5"/>
          <a:stretch/>
        </p:blipFill>
        <p:spPr>
          <a:xfrm>
            <a:off x="6588000" y="4724280"/>
            <a:ext cx="648000" cy="638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шары"/>
          <p:cNvPicPr/>
          <p:nvPr/>
        </p:nvPicPr>
        <p:blipFill>
          <a:blip r:embed="rId6"/>
          <a:stretch/>
        </p:blipFill>
        <p:spPr>
          <a:xfrm>
            <a:off x="4211640" y="522936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шары"/>
          <p:cNvPicPr/>
          <p:nvPr/>
        </p:nvPicPr>
        <p:blipFill>
          <a:blip r:embed="rId7"/>
          <a:stretch/>
        </p:blipFill>
        <p:spPr>
          <a:xfrm>
            <a:off x="7667640" y="364500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шары"/>
          <p:cNvPicPr/>
          <p:nvPr/>
        </p:nvPicPr>
        <p:blipFill>
          <a:blip r:embed="rId8"/>
          <a:stretch/>
        </p:blipFill>
        <p:spPr>
          <a:xfrm>
            <a:off x="2340000" y="5661000"/>
            <a:ext cx="647640" cy="6382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8"/>
          <p:cNvSpPr txBox="1"/>
          <p:nvPr/>
        </p:nvSpPr>
        <p:spPr>
          <a:xfrm>
            <a:off x="1835280" y="692280"/>
            <a:ext cx="48974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cff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Excellent!</a:t>
            </a:r>
            <a:endParaRPr b="1" lang="en-US" sz="6000" spc="1" strike="noStrike">
              <a:ln w="12600">
                <a:solidFill>
                  <a:srgbClr val="ccff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ссмиььббю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1055880" y="361800"/>
            <a:ext cx="944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Monotype Corsiva"/>
              </a:rPr>
              <a:t>How do you feel after the less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 rot="1143000">
            <a:off x="2190240" y="1459080"/>
            <a:ext cx="25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- surpris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 rot="933600">
            <a:off x="1910520" y="2852280"/>
            <a:ext cx="183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- happ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 rot="210000">
            <a:off x="2052720" y="3933720"/>
            <a:ext cx="11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- jo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 rot="20880600">
            <a:off x="2053080" y="4941720"/>
            <a:ext cx="20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- excit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 rot="20646600">
            <a:off x="3062160" y="5734080"/>
            <a:ext cx="18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- prou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5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пикадил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358280" y="1566720"/>
            <a:ext cx="71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Monotype Corsiva"/>
              </a:rPr>
              <a:t>The Sixteenth of Decembe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342880" y="39852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. Names of countr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23920" y="191628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Scot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3280" y="400536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W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520280" y="62164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. Alas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405600" y="35002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4. Eng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609240" y="227664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5. Tex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4326120" y="5734080"/>
            <a:ext cx="46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. Northern Ire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11" descr="800px-Stirlingcastle"/>
          <p:cNvPicPr/>
          <p:nvPr/>
        </p:nvPicPr>
        <p:blipFill>
          <a:blip r:embed="rId1"/>
          <a:stretch/>
        </p:blipFill>
        <p:spPr>
          <a:xfrm>
            <a:off x="250920" y="260280"/>
            <a:ext cx="2138400" cy="160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уэльс"/>
          <p:cNvPicPr/>
          <p:nvPr/>
        </p:nvPicPr>
        <p:blipFill>
          <a:blip r:embed="rId2"/>
          <a:stretch/>
        </p:blipFill>
        <p:spPr>
          <a:xfrm>
            <a:off x="468360" y="2492280"/>
            <a:ext cx="2101680" cy="157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аляска"/>
          <p:cNvPicPr/>
          <p:nvPr/>
        </p:nvPicPr>
        <p:blipFill>
          <a:blip r:embed="rId3"/>
          <a:stretch/>
        </p:blipFill>
        <p:spPr>
          <a:xfrm>
            <a:off x="1763640" y="4581360"/>
            <a:ext cx="2352600" cy="17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anglia"/>
          <p:cNvPicPr/>
          <p:nvPr/>
        </p:nvPicPr>
        <p:blipFill>
          <a:blip r:embed="rId4"/>
          <a:stretch/>
        </p:blipFill>
        <p:spPr>
          <a:xfrm>
            <a:off x="3132000" y="1341360"/>
            <a:ext cx="3017880" cy="201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техас"/>
          <p:cNvPicPr/>
          <p:nvPr/>
        </p:nvPicPr>
        <p:blipFill>
          <a:blip r:embed="rId5"/>
          <a:stretch/>
        </p:blipFill>
        <p:spPr>
          <a:xfrm>
            <a:off x="6732720" y="620640"/>
            <a:ext cx="182376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северная ирландия"/>
          <p:cNvPicPr/>
          <p:nvPr/>
        </p:nvPicPr>
        <p:blipFill>
          <a:blip r:embed="rId6"/>
          <a:stretch/>
        </p:blipFill>
        <p:spPr>
          <a:xfrm>
            <a:off x="6246720" y="3068640"/>
            <a:ext cx="192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772720" y="476280"/>
            <a:ext cx="46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I. Names of countrie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5"/>
          <p:cNvSpPr/>
          <p:nvPr/>
        </p:nvSpPr>
        <p:spPr>
          <a:xfrm rot="20278800">
            <a:off x="977400" y="2491920"/>
            <a:ext cx="24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1. Cana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370160" y="335772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2. Mexic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49560" y="609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3. New Zea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8"/>
          <p:cNvSpPr/>
          <p:nvPr/>
        </p:nvSpPr>
        <p:spPr>
          <a:xfrm rot="1031400">
            <a:off x="6174000" y="2636640"/>
            <a:ext cx="25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4. The U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87360" y="3284640"/>
            <a:ext cx="36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5. Great Brita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475240" y="55897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6. Austra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11" descr="канада"/>
          <p:cNvPicPr/>
          <p:nvPr/>
        </p:nvPicPr>
        <p:blipFill>
          <a:blip r:embed="rId1"/>
          <a:stretch/>
        </p:blipFill>
        <p:spPr>
          <a:xfrm rot="20574600">
            <a:off x="382680" y="1107720"/>
            <a:ext cx="2162160" cy="168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австралия"/>
          <p:cNvPicPr/>
          <p:nvPr/>
        </p:nvPicPr>
        <p:blipFill>
          <a:blip r:embed="rId2"/>
          <a:stretch/>
        </p:blipFill>
        <p:spPr>
          <a:xfrm>
            <a:off x="5508720" y="4149720"/>
            <a:ext cx="2617560" cy="125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великобритания"/>
          <p:cNvPicPr/>
          <p:nvPr/>
        </p:nvPicPr>
        <p:blipFill>
          <a:blip r:embed="rId3"/>
          <a:stretch/>
        </p:blipFill>
        <p:spPr>
          <a:xfrm>
            <a:off x="3348000" y="1268280"/>
            <a:ext cx="2586240" cy="194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сша"/>
          <p:cNvPicPr/>
          <p:nvPr/>
        </p:nvPicPr>
        <p:blipFill>
          <a:blip r:embed="rId4"/>
          <a:stretch/>
        </p:blipFill>
        <p:spPr>
          <a:xfrm>
            <a:off x="7596360" y="404640"/>
            <a:ext cx="1234800" cy="18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новая зеландия"/>
          <p:cNvPicPr/>
          <p:nvPr/>
        </p:nvPicPr>
        <p:blipFill>
          <a:blip r:embed="rId5"/>
          <a:stretch/>
        </p:blipFill>
        <p:spPr>
          <a:xfrm>
            <a:off x="611280" y="4221000"/>
            <a:ext cx="19810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132720" y="11592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III. Colour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52800" y="476280"/>
            <a:ext cx="17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Comic Sans MS"/>
              </a:rPr>
              <a:t>1. Bl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59280" y="134136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2. Gre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56480" y="249228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3. R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665760" y="62064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4. Whi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6519960" y="141300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5. Yello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6606360" y="249228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6. Oran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11" descr="британский флаг"/>
          <p:cNvPicPr/>
          <p:nvPr/>
        </p:nvPicPr>
        <p:blipFill>
          <a:blip r:embed="rId1"/>
          <a:stretch/>
        </p:blipFill>
        <p:spPr>
          <a:xfrm>
            <a:off x="324000" y="4005360"/>
            <a:ext cx="3840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russian_flag"/>
          <p:cNvPicPr/>
          <p:nvPr/>
        </p:nvPicPr>
        <p:blipFill>
          <a:blip r:embed="rId2"/>
          <a:stretch/>
        </p:blipFill>
        <p:spPr>
          <a:xfrm>
            <a:off x="2627280" y="1197000"/>
            <a:ext cx="369108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anadian-flag"/>
          <p:cNvPicPr/>
          <p:nvPr/>
        </p:nvPicPr>
        <p:blipFill>
          <a:blip r:embed="rId3"/>
          <a:stretch/>
        </p:blipFill>
        <p:spPr>
          <a:xfrm>
            <a:off x="4427640" y="4005360"/>
            <a:ext cx="45417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415960" y="18900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IV. Names of citi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34200" y="220500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Lond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89800" y="4076640"/>
            <a:ext cx="34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5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Washing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96320" y="6093000"/>
            <a:ext cx="239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Ottaw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963520" y="3284640"/>
            <a:ext cx="31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Welling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070320" y="1125360"/>
            <a:ext cx="28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Auck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531760" y="5950080"/>
            <a:ext cx="28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ff9933"/>
                </a:solidFill>
                <a:latin typeface="Comic Sans MS"/>
              </a:rPr>
              <a:t>. Canber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веллингтон"/>
          <p:cNvPicPr/>
          <p:nvPr/>
        </p:nvPicPr>
        <p:blipFill>
          <a:blip r:embed="rId1"/>
          <a:stretch/>
        </p:blipFill>
        <p:spPr>
          <a:xfrm>
            <a:off x="2916360" y="98100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лондон"/>
          <p:cNvPicPr/>
          <p:nvPr/>
        </p:nvPicPr>
        <p:blipFill>
          <a:blip r:embed="rId2"/>
          <a:stretch/>
        </p:blipFill>
        <p:spPr>
          <a:xfrm>
            <a:off x="290520" y="0"/>
            <a:ext cx="195408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оттава"/>
          <p:cNvPicPr/>
          <p:nvPr/>
        </p:nvPicPr>
        <p:blipFill>
          <a:blip r:embed="rId3"/>
          <a:stretch/>
        </p:blipFill>
        <p:spPr>
          <a:xfrm>
            <a:off x="611280" y="4724280"/>
            <a:ext cx="1896840" cy="1419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австралия"/>
          <p:cNvPicPr/>
          <p:nvPr/>
        </p:nvPicPr>
        <p:blipFill>
          <a:blip r:embed="rId4"/>
          <a:stretch/>
        </p:blipFill>
        <p:spPr>
          <a:xfrm>
            <a:off x="5508720" y="4437000"/>
            <a:ext cx="2616120" cy="125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вашингтон"/>
          <p:cNvPicPr/>
          <p:nvPr/>
        </p:nvPicPr>
        <p:blipFill>
          <a:blip r:embed="rId5"/>
          <a:stretch/>
        </p:blipFill>
        <p:spPr>
          <a:xfrm>
            <a:off x="611280" y="2781360"/>
            <a:ext cx="192384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6680" y="260280"/>
            <a:ext cx="42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V. Names of citi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61080" y="2852640"/>
            <a:ext cx="24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. Lond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032120" y="33577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2. Sydne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37040" y="621648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. Cardif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450480" y="907920"/>
            <a:ext cx="22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4. Bos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455160" y="465300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. Belfa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6102360" y="580536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Comic Sans MS"/>
              </a:rPr>
              <a:t>1</a:t>
            </a: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. Edinburg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2" descr="лондон"/>
          <p:cNvPicPr/>
          <p:nvPr/>
        </p:nvPicPr>
        <p:blipFill>
          <a:blip r:embed="rId1"/>
          <a:stretch/>
        </p:blipFill>
        <p:spPr>
          <a:xfrm>
            <a:off x="250920" y="18900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кардиф"/>
          <p:cNvPicPr/>
          <p:nvPr/>
        </p:nvPicPr>
        <p:blipFill>
          <a:blip r:embed="rId2"/>
          <a:stretch/>
        </p:blipFill>
        <p:spPr>
          <a:xfrm>
            <a:off x="179280" y="3933720"/>
            <a:ext cx="294480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белфаст"/>
          <p:cNvPicPr/>
          <p:nvPr/>
        </p:nvPicPr>
        <p:blipFill>
          <a:blip r:embed="rId3"/>
          <a:stretch/>
        </p:blipFill>
        <p:spPr>
          <a:xfrm>
            <a:off x="3995640" y="1484280"/>
            <a:ext cx="3905280" cy="314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edinburg_aspect"/>
          <p:cNvPicPr/>
          <p:nvPr/>
        </p:nvPicPr>
        <p:blipFill>
          <a:blip r:embed="rId4"/>
          <a:stretch/>
        </p:blipFill>
        <p:spPr>
          <a:xfrm>
            <a:off x="3203640" y="4724280"/>
            <a:ext cx="30240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280320" y="212760"/>
            <a:ext cx="29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VI. Picture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 rot="21140400">
            <a:off x="231840" y="227664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1. Niagara Fa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 rot="21196800">
            <a:off x="429840" y="4695840"/>
            <a:ext cx="29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2. Loch 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Mons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977560" y="3141720"/>
            <a:ext cx="34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3. Skyscrap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 rot="528600">
            <a:off x="6410160" y="278100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4. Big B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9"/>
          <p:cNvSpPr/>
          <p:nvPr/>
        </p:nvSpPr>
        <p:spPr>
          <a:xfrm rot="412800">
            <a:off x="5489640" y="501300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5. The Statu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of Libe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692440" y="602136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Comic Sans MS"/>
              </a:rPr>
              <a:t>6. Red Squ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Niagara_American_Falls"/>
          <p:cNvPicPr/>
          <p:nvPr/>
        </p:nvPicPr>
        <p:blipFill>
          <a:blip r:embed="rId1"/>
          <a:stretch/>
        </p:blipFill>
        <p:spPr>
          <a:xfrm rot="21128400">
            <a:off x="324000" y="333360"/>
            <a:ext cx="2782800" cy="1855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лохнесское чудовище"/>
          <p:cNvPicPr/>
          <p:nvPr/>
        </p:nvPicPr>
        <p:blipFill>
          <a:blip r:embed="rId2"/>
          <a:stretch/>
        </p:blipFill>
        <p:spPr>
          <a:xfrm rot="21060000">
            <a:off x="395280" y="3068640"/>
            <a:ext cx="2133720" cy="1539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neboskryoby"/>
          <p:cNvPicPr/>
          <p:nvPr/>
        </p:nvPicPr>
        <p:blipFill>
          <a:blip r:embed="rId3"/>
          <a:stretch/>
        </p:blipFill>
        <p:spPr>
          <a:xfrm>
            <a:off x="4067280" y="1197000"/>
            <a:ext cx="1527120" cy="203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300pxBigben"/>
          <p:cNvPicPr/>
          <p:nvPr/>
        </p:nvPicPr>
        <p:blipFill>
          <a:blip r:embed="rId4"/>
          <a:stretch/>
        </p:blipFill>
        <p:spPr>
          <a:xfrm rot="576000">
            <a:off x="6876720" y="188640"/>
            <a:ext cx="1782720" cy="23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статуя свободы"/>
          <p:cNvPicPr/>
          <p:nvPr/>
        </p:nvPicPr>
        <p:blipFill>
          <a:blip r:embed="rId5"/>
          <a:stretch/>
        </p:blipFill>
        <p:spPr>
          <a:xfrm rot="317400">
            <a:off x="6732720" y="3499920"/>
            <a:ext cx="2157120" cy="161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красная площадь"/>
          <p:cNvPicPr/>
          <p:nvPr/>
        </p:nvPicPr>
        <p:blipFill>
          <a:blip r:embed="rId6"/>
          <a:stretch/>
        </p:blipFill>
        <p:spPr>
          <a:xfrm rot="21359400">
            <a:off x="3635280" y="3789000"/>
            <a:ext cx="1567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281760" y="620640"/>
            <a:ext cx="33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VII. Number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 rot="20327400">
            <a:off x="581760" y="1545840"/>
            <a:ext cx="14608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1)</a:t>
            </a: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 60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6"/>
          <p:cNvSpPr/>
          <p:nvPr/>
        </p:nvSpPr>
        <p:spPr>
          <a:xfrm rot="20655600">
            <a:off x="2521440" y="2196720"/>
            <a:ext cx="1460880" cy="70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2)</a:t>
            </a: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 45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 rot="1517400">
            <a:off x="4943160" y="1585800"/>
            <a:ext cx="1460880" cy="70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3)</a:t>
            </a: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 50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8"/>
          <p:cNvSpPr/>
          <p:nvPr/>
        </p:nvSpPr>
        <p:spPr>
          <a:xfrm rot="718800">
            <a:off x="6720120" y="2548080"/>
            <a:ext cx="1316160" cy="70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4)</a:t>
            </a:r>
            <a:r>
              <a:rPr b="1" lang="en-US" sz="4000" spc="-1" strike="noStrike">
                <a:solidFill>
                  <a:srgbClr val="993300"/>
                </a:solidFill>
                <a:latin typeface="Comic Sans MS"/>
              </a:rPr>
              <a:t> 5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68360" y="4508640"/>
            <a:ext cx="681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re are … states in the US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239640" y="4508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ahoma"/>
              </a:rPr>
              <a:t>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7:09:19Z</dcterms:created>
  <dc:creator>ViP</dc:creator>
  <dc:description/>
  <dc:language>en-US</dc:language>
  <cp:lastModifiedBy>User</cp:lastModifiedBy>
  <dcterms:modified xsi:type="dcterms:W3CDTF">2020-03-03T12:05:49Z</dcterms:modified>
  <cp:revision>7</cp:revision>
  <dc:subject/>
  <dc:title>Слайд 1</dc:title>
</cp:coreProperties>
</file>